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F2A-D81D-4595-A467-147032E2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FB3-7DD0-4AE1-8025-B6A00C40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E42-9C6B-46C0-822E-2146773C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C38-8A4C-4282-A6F2-A791837B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A787-6665-4B3C-8D16-C12E1A5F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686D-1483-4D8B-919F-ED7ED15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8B70-9FF6-41A4-8247-70984FE6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E5B-2710-4572-B7A8-0E182A3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BD77-2AD6-4603-A0AC-62E114A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08AB-350C-429F-9264-83F6FCDE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8654-11F8-4F97-99A2-AF50DB1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B7E-FEF6-415D-9AD7-6DAB7BF2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0EA1-32A2-466E-AFA9-5330FD3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C468-3EAF-49AC-ADB3-322E6B2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6D4-A5DF-4C1A-808C-34890BA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85E5-8B99-4E04-850E-DA0C36C0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A38F-5DE5-44A4-8953-08F50CB8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E87-A654-44F4-9946-7410353F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C20-FFCF-4C60-9123-05494482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D1A-169B-43A3-89D4-EE5D509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086-1BB4-4DB9-B38B-239907F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065-0A0E-4003-B692-B9724E2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9A7-09E1-4981-A0B4-D7E9D838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CD6-025B-4A15-A972-712B955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CA9-77D4-4AC7-9A1A-B4F30029EA9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B33-C63B-45BB-911F-EF3207E774FB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 American Literature II - Unit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Give two examples of how Horacio Quiroga’s life was b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her accidentally shot &amp; killed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acio accidentally shot and killed a close friend when looking over a g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wife killed herself because she didn’t like living in an Argentine ju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marriage ended in an unhappy s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f his kids killed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himself because he didn’t want to suffer with stomach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How did Emily and Homer me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r came to town to pave the str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What is ironic about Granny saying “Find George and be sure to tell him I forgot him.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bviously didn’t forget him if she is wanting them to tell him she forgot him 60 year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In “Recuerdo” where are the two happy and merr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ferry, out to eat, under the m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Who did Katherine Anne Porter most often write abou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women - the strain of custom and obligation they had placed on them in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Why didn’t Rhodes have to pay Butch Weld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judge claimed that Butch knew the man who made the tank explode - it was a conspiracy to get money from Rhodes (however, Butch claimed he didn’t know who did 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How is Granny jilted twi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George leaving her at the al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by God not giving her a sig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What was the reason the townspeople sent for Emily’s famil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Homer and her were spending a lot of time together, specifically late nights - it wasn’t right for them to be staying over when they weren’t m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What is the importance of the gray hair on the pillow in “A Rose for Emily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wed that she had been sleeping next to the body rec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What was Edna St. Vincent Millay’s most famous work (a collection of poems)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llad of the Harp We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What color was Emily’s dress in the paint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Why did Emily kill Hom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would ruin her re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he was used to getting her way - this was her way of controlling the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Who wrote “Recuerdo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na St. Vincent Mil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What is Edgar Lee Masters’ most famous 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on River An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How does Fiddler Jones’ name fi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lays the fi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n’t do much with his life - fiddl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What are two things Granny sees at the end of her life that aren’t really ther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/someone coming in a c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sy, her dea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What did Emily do to earn some mone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China painting 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What was William Faulkner’s most famous nove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bsalom, Absalo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What did Alicia start to do from the lack of blood (subdelirium of anemia)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hallucinations - ape at the bottom of her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Describe the setting of “A Rose for Emily” - 3 detai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cked leather furni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people treated as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ets just getting pa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roo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Mindi Spear</cp:lastModifiedBy>
  <dcterms:modified xsi:type="dcterms:W3CDTF">2009-03-17T21:07:42Z</dcterms:modified>
  <cp:revision>9</cp:revision>
  <dc:subject/>
  <dc:title>Twenty Questions </dc:title>
</cp:coreProperties>
</file>